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9CCC7-471E-4048-B7EB-CDFA6381D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D0B6-0132-4E19-A490-E8869553E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EB130-E9D0-484B-9A79-67AE28D96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F0D87-E2FB-4D83-80BB-44533EA63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4BC00-B559-4101-8D56-B747C01BC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787D7-BA28-4AD4-992A-E98EA4CBA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748D9-D0EC-4BA6-8E42-1DF2FA62D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EAF4C-BA6A-4F3A-B4DD-93AA20F49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C7FA2-5E59-4C21-BFC3-536974D40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D07C7-D813-4C15-8D6F-A29589182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01F65-A51D-4896-9FE4-216ECD8D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1631-AE85-47C9-A138-733E98FE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5DD0B-9CEB-4422-BAA8-1CE26486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345B1-0702-40E1-9868-6C0B33BC9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C645-F0D1-4BC2-8431-93C91A4D2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0064A-0346-4FE4-9AD9-CFB4B681D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C272F-CB24-43C0-9900-80D837971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DAF5-01BA-429D-8D5F-298E477B3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2FE4-B18C-40B1-BF35-A0CBF0C66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4FEB-4A77-4A9C-8896-E779B309B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F4AE-EA40-4435-AA43-9DD758DF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8F2F-F60A-43A7-B93F-4E09C4C7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5C84-297C-4BDC-B88F-0CB7807CA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0AF54-015B-41B5-B6EA-B44D49C2E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B084-25AE-4865-9A80-E4240F00C25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ffffff"/>
                </a:gs>
                <a:gs pos="100000">
                  <a:srgbClr val="d7d7d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ffffff"/>
                </a:gs>
                <a:gs pos="100000">
                  <a:srgbClr val="e6e6e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4CA1-AE0E-46B5-B4C2-06F395756E1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careercruising.com/Careers/JobDetails.aspx?LoginID=5fb44892-499d-48cf-8182-e8b303cdfaee-&amp;OccNumber=182&amp;MM=1&amp;field=JobDesc" TargetMode="External"/><Relationship Id="rId2" Type="http://schemas.openxmlformats.org/officeDocument/2006/relationships/hyperlink" Target="http://careercruising.com/Careers/JobDetails.aspx?LoginID=5fb44892-499d-48cf-8182-e8b303cdfaee-&amp;OccNumber=182&amp;MM=1&amp;field=WorkCond" TargetMode="External"/><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areer of my Choice</a:t>
            </a:r>
            <a:endParaRPr b="0" lang="en-US" sz="5400" spc="-1" strike="noStrike">
              <a:solidFill>
                <a:srgbClr val="000000"/>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 Gallan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m Editor</a:t>
            </a:r>
            <a:endParaRPr b="0" lang="en-US" sz="2800" spc="-1" strike="noStrike">
              <a:solidFill>
                <a:srgbClr val="000000"/>
              </a:solidFill>
              <a:latin typeface="Tahoma"/>
            </a:endParaRPr>
          </a:p>
        </p:txBody>
      </p:sp>
      <p:pic>
        <p:nvPicPr>
          <p:cNvPr id="90" name="" descr=""/>
          <p:cNvPicPr/>
          <p:nvPr/>
        </p:nvPicPr>
        <p:blipFill>
          <a:blip r:embed="rId1"/>
          <a:stretch/>
        </p:blipFill>
        <p:spPr>
          <a:xfrm>
            <a:off x="6629400" y="4724280"/>
            <a:ext cx="1800360" cy="164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Job Description</a:t>
            </a:r>
            <a:endParaRPr b="0" lang="en-US" sz="4400" spc="-1" strike="noStrike">
              <a:solidFill>
                <a:srgbClr val="000000"/>
              </a:solidFill>
              <a:latin typeface="Tahoma"/>
            </a:endParaRPr>
          </a:p>
        </p:txBody>
      </p:sp>
      <p:sp>
        <p:nvSpPr>
          <p:cNvPr id="9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Have you ever wondered how a movie changes scenes and camera angles, or how they get music into a scene?   </a:t>
            </a:r>
            <a:endParaRPr b="0" lang="en-US" sz="2800" spc="-1" strike="noStrike">
              <a:solidFill>
                <a:srgbClr val="000000"/>
              </a:solidFill>
              <a:latin typeface="Tahoma"/>
            </a:endParaRPr>
          </a:p>
        </p:txBody>
      </p:sp>
      <p:pic>
        <p:nvPicPr>
          <p:cNvPr id="93" name="" descr=""/>
          <p:cNvPicPr/>
          <p:nvPr/>
        </p:nvPicPr>
        <p:blipFill>
          <a:blip r:embed="rId1"/>
          <a:stretch/>
        </p:blipFill>
        <p:spPr>
          <a:xfrm>
            <a:off x="4648320" y="1884240"/>
            <a:ext cx="4038480" cy="392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That is the job of a Film Editor. They take all the shots and clips from the filming process of the movie, and put them together, cut them, and add effects to build the movie.</a:t>
            </a:r>
            <a:endParaRPr b="0" lang="en-US" sz="2800" spc="-1" strike="noStrike">
              <a:solidFill>
                <a:srgbClr val="000000"/>
              </a:solidFill>
              <a:latin typeface="Tahoma"/>
            </a:endParaRPr>
          </a:p>
        </p:txBody>
      </p:sp>
      <p:pic>
        <p:nvPicPr>
          <p:cNvPr id="95" name="" descr=""/>
          <p:cNvPicPr/>
          <p:nvPr/>
        </p:nvPicPr>
        <p:blipFill>
          <a:blip r:embed="rId1"/>
          <a:stretch/>
        </p:blipFill>
        <p:spPr>
          <a:xfrm>
            <a:off x="896760" y="3924360"/>
            <a:ext cx="7348680" cy="217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ducation and Training</a:t>
            </a:r>
            <a:endParaRPr b="0" lang="en-US" sz="4400" spc="-1" strike="noStrike">
              <a:solidFill>
                <a:srgbClr val="000000"/>
              </a:solidFill>
              <a:latin typeface="Tahoma"/>
            </a:endParaRPr>
          </a:p>
        </p:txBody>
      </p:sp>
      <p:sp>
        <p:nvSpPr>
          <p:cNvPr id="97" name="PlaceHolder 2"/>
          <p:cNvSpPr>
            <a:spLocks noGrp="1"/>
          </p:cNvSpPr>
          <p:nvPr>
            <p:ph/>
          </p:nvPr>
        </p:nvSpPr>
        <p:spPr>
          <a:xfrm>
            <a:off x="456840" y="1599840"/>
            <a:ext cx="74674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A combination of post-secondary education and practical experience is the best preparation to become a Film Editor. Formal Training at a Film School can also be quite valuable</a:t>
            </a:r>
            <a:endParaRPr b="0" lang="en-US" sz="2800" spc="-1" strike="noStrike">
              <a:solidFill>
                <a:srgbClr val="000000"/>
              </a:solidFill>
              <a:latin typeface="Tahoma"/>
            </a:endParaRPr>
          </a:p>
        </p:txBody>
      </p:sp>
      <p:pic>
        <p:nvPicPr>
          <p:cNvPr id="98" name="" descr=""/>
          <p:cNvPicPr/>
          <p:nvPr/>
        </p:nvPicPr>
        <p:blipFill>
          <a:blip r:embed="rId1"/>
          <a:stretch/>
        </p:blipFill>
        <p:spPr>
          <a:xfrm>
            <a:off x="228600" y="3967200"/>
            <a:ext cx="462924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ing Conditions</a:t>
            </a: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Working hours are usually around 40 to 60 a week. They work so much, because the production companies place the film on a certain deadline, and expect the editor to have the movie completed by the deadline. If they are not working on editing, they will most likely be discussing the movie with the sound and music editors. For example, if the director wants music in a scene, they will discuss that with the editor, to make sure that the clip is long enough, ect….</a:t>
            </a:r>
            <a:endParaRPr b="0" lang="en-US" sz="2800" spc="-1" strike="noStrike">
              <a:solidFill>
                <a:srgbClr val="000000"/>
              </a:solidFill>
              <a:latin typeface="Tahoma"/>
            </a:endParaRPr>
          </a:p>
        </p:txBody>
      </p:sp>
      <p:pic>
        <p:nvPicPr>
          <p:cNvPr id="101" name="" descr=""/>
          <p:cNvPicPr/>
          <p:nvPr/>
        </p:nvPicPr>
        <p:blipFill>
          <a:blip r:embed="rId1"/>
          <a:stretch/>
        </p:blipFill>
        <p:spPr>
          <a:xfrm>
            <a:off x="5334120" y="4656240"/>
            <a:ext cx="2257200" cy="18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arnings</a:t>
            </a:r>
            <a:endParaRPr b="0" lang="en-US" sz="4400" spc="-1" strike="noStrike">
              <a:solidFill>
                <a:srgbClr val="000000"/>
              </a:solidFill>
              <a:latin typeface="Tahoma"/>
            </a:endParaRPr>
          </a:p>
        </p:txBody>
      </p:sp>
      <p:sp>
        <p:nvSpPr>
          <p:cNvPr id="1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Condensed"/>
              </a:rPr>
              <a:t>If a Film Editor is working on a movie, popular or not, the rates are usually pretty high. They can make up to 3,000$ a week, but might only work for a few months at a time.</a:t>
            </a:r>
            <a:endParaRPr b="0" lang="en-US" sz="2800" spc="-1" strike="noStrike">
              <a:solidFill>
                <a:srgbClr val="000000"/>
              </a:solidFill>
              <a:latin typeface="Tahoma"/>
            </a:endParaRPr>
          </a:p>
        </p:txBody>
      </p:sp>
      <p:pic>
        <p:nvPicPr>
          <p:cNvPr id="104" name="" descr=""/>
          <p:cNvPicPr/>
          <p:nvPr/>
        </p:nvPicPr>
        <p:blipFill>
          <a:blip r:embed="rId1"/>
          <a:stretch/>
        </p:blipFill>
        <p:spPr>
          <a:xfrm>
            <a:off x="4648320" y="2130480"/>
            <a:ext cx="40384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erences</a:t>
            </a:r>
            <a:endParaRPr b="0" lang="en-US" sz="4400" spc="-1" strike="noStrike">
              <a:solidFill>
                <a:srgbClr val="000000"/>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1"/>
              </a:rPr>
              <a:t>http://careercruising.com/Careers/JobDetails.aspx?LoginID=5fb44892-499d-48cf-8182-e8b303cdfaee-&amp;OccNumber=182&amp;MM=1&amp;field=JobDesc</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ahoma"/>
                <a:hlinkClick r:id="rId2"/>
              </a:rPr>
              <a:t>http://careercruising.com/Careers/JobDetails.aspx?LoginID=5fb44892-499d-48cf-8182-e8b303cdfaee-&amp;OccNumber=182&amp;MM=1&amp;field=WorkCond</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Education</a:t>
            </a:r>
            <a:endParaRPr b="0" lang="en-US" sz="1400" spc="-1" strike="noStrike">
              <a:solidFill>
                <a:srgbClr val="000000"/>
              </a:solidFill>
              <a:latin typeface="Tahoma"/>
            </a:endParaRPr>
          </a:p>
          <a:p>
            <a:pPr marL="343080" indent="-343080">
              <a:spcBef>
                <a:spcPts val="3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careercruising.com/Careers/JobDetails.aspx?LoginID=5fb44892-499d-48cf-8182-e8b303cdfaee-&amp;OccNumber=182&amp;MM=1&amp;field=Salary</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07" name="" descr=""/>
          <p:cNvPicPr/>
          <p:nvPr/>
        </p:nvPicPr>
        <p:blipFill>
          <a:blip r:embed="rId3"/>
          <a:stretch/>
        </p:blipFill>
        <p:spPr>
          <a:xfrm>
            <a:off x="3733920" y="3962520"/>
            <a:ext cx="1558800" cy="185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5:13:15Z</dcterms:created>
  <dc:creator>samuel.gallant</dc:creator>
  <dc:description/>
  <dc:language>en-US</dc:language>
  <cp:lastModifiedBy>samuel.gallant</cp:lastModifiedBy>
  <dcterms:modified xsi:type="dcterms:W3CDTF">2009-02-18T15:49:49Z</dcterms:modified>
  <cp:revision>8</cp:revision>
  <dc:subject/>
  <dc:title>Career of my Choice</dc:title>
</cp:coreProperties>
</file>