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713-7332-42B5-9906-1AD06F0E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6DB-2F6C-4E4A-9732-616ECF0B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870-11C1-49EB-AC8C-121606FC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756-44F0-474C-88B9-6C5A8412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347-40C2-4C6C-A3D3-163447F3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A27-3737-40DC-9AEC-4541E722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853-A343-4583-9E47-655B8090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60A-4AF9-4714-8BD6-3DD7E345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B2B-68AF-4A7B-9D3C-3595C87C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C61-3B76-427A-9A15-AF49FD98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5D0-8E90-495D-B30F-233265BD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DC4-3142-4062-AFCB-4AF09589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E703-3338-403A-BD98-BE0FF94D8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eirdrichard.com/inclined.htm" TargetMode="External"/><Relationship Id="rId2" Type="http://schemas.openxmlformats.org/officeDocument/2006/relationships/hyperlink" Target="http://weirdrichard.com/inclined.htm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47304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lined Pla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nclined pla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surface set at an angle, other than a right angle, against a horizontal surface. Th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inclined pla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mits one to overcom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rge resis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applying a relative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mall for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rough a longer distance than the load is to be rai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irdrichard.com/inclined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666880" y="2819520"/>
            <a:ext cx="402444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2:39:25Z</dcterms:created>
  <dc:creator>susan.brannon</dc:creator>
  <dc:description/>
  <dc:language>en-US</dc:language>
  <cp:lastModifiedBy>susan.brannon</cp:lastModifiedBy>
  <dcterms:modified xsi:type="dcterms:W3CDTF">2009-05-01T12:55:54Z</dcterms:modified>
  <cp:revision>1</cp:revision>
  <dc:subject/>
  <dc:title>Slide 1</dc:title>
</cp:coreProperties>
</file>