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095-8692-44C6-98B2-EB29A81C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A73-04B7-427C-BFDE-3A7942FB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6E1-FC3E-4F1B-95D5-37872FBB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FAD-BB3D-467C-B033-BBCFD0DB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6B4-2176-4925-BEA6-21897924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C98-DDBE-4AC2-A2B0-AFCCC4F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225-6670-47A2-A572-4F9C9F65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942-15BD-4AD5-B244-18B2350C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F15-FAFF-439B-AA3E-5D36B639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408-7E15-499D-9B7D-79450D8B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9EF-82A0-440D-BC58-4CAB8269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AA4-2AC3-4F25-AA4C-3A867877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6286-094E-40C3-8015-383E2419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irdrichard.com/inclined.htm" TargetMode="External"/><Relationship Id="rId2" Type="http://schemas.openxmlformats.org/officeDocument/2006/relationships/hyperlink" Target="http://weirdrichard.com/inclined.htm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47304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ined Pl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urface set at an angle, other than a right angle, against a horizontal surface. 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mits one to overcom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 resi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applying a relative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 fo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ough a longer distance than the load is to be rai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irdrichard.com/inclined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2819520"/>
            <a:ext cx="40244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39:25Z</dcterms:created>
  <dc:creator>susan.brannon</dc:creator>
  <dc:description/>
  <dc:language>en-US</dc:language>
  <cp:lastModifiedBy>susan.brannon</cp:lastModifiedBy>
  <dcterms:modified xsi:type="dcterms:W3CDTF">2009-05-01T12:55:54Z</dcterms:modified>
  <cp:revision>1</cp:revision>
  <dc:subject/>
  <dc:title>Slide 1</dc:title>
</cp:coreProperties>
</file>