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BBD-AF2D-4B57-9E02-2B7C62C6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68C-A250-4846-AC1D-5E15FB40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206-94BF-4B47-ADD7-AADCC68E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B83-8F5C-4DD0-9392-3E9BBFE1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915-07D5-4B8D-B056-87CE398C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9F5-93DE-4156-8764-9B82C616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883-185B-4199-8C01-E9058B5E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A15-69E1-4545-87F1-75ECE20D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6B5-0340-4686-B2A7-98DF25D9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7E7-33C1-4D56-AE5A-CF21CB50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C42-ED26-43FD-B9C2-D90E789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5C3-1D55-4898-9B97-BF6A808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236B-73A3-4143-92D0-4A810EB1C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rdrichard.com/inclined.htm" TargetMode="External"/><Relationship Id="rId2" Type="http://schemas.openxmlformats.org/officeDocument/2006/relationships/hyperlink" Target="http://weirdrichard.com/inclined.htm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730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ined Pl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urface set at an angle, other than a right angle, against a horizontal surface. 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mits one to overcom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 resi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applying a relative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 fo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ough a longer distance than the load is to be ra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irdrichard.com/inclined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40244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39:25Z</dcterms:created>
  <dc:creator>susan.brannon</dc:creator>
  <dc:description/>
  <dc:language>en-US</dc:language>
  <cp:lastModifiedBy>susan.brannon</cp:lastModifiedBy>
  <dcterms:modified xsi:type="dcterms:W3CDTF">2009-05-01T12:55:54Z</dcterms:modified>
  <cp:revision>1</cp:revision>
  <dc:subject/>
  <dc:title>Slide 1</dc:title>
</cp:coreProperties>
</file>