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F200-165E-4959-8D50-BA9C182BC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EDFF-7C9C-4BF8-B061-30F6EFF1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C1F8-0F7C-43C3-A498-49112D3C3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5C8E-72F0-4C62-9757-C61D381D5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9C7C-0AE7-49FA-8DCD-B982383D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DD7C-EB23-4034-A846-66F2BF52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FEF1-3389-4617-9755-D307DFED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1DF5-3AB3-49B0-A441-575C0760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8D4B-C650-44FD-95CC-AE6A9868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5429-088F-426A-9FF4-E839699F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9805-6A12-4B28-A8D2-037FC5A2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FF69-CB49-4016-B24F-08CF905E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862A-9D89-4CAE-AC1A-98AA97974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eirdrichard.com/inclined.htm" TargetMode="External"/><Relationship Id="rId2" Type="http://schemas.openxmlformats.org/officeDocument/2006/relationships/hyperlink" Target="http://weirdrichard.com/inclined.htm" TargetMode="External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473040"/>
            <a:ext cx="655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clined Pla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inclined pla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 surface set at an angle, other than a right angle, against a horizontal surface. Th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inclined pla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mits one to overcome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arge resis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y applying a relativel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mall for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rough a longer distance than the load is to be rai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eirdrichard.com/inclined.ht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2666880" y="2819520"/>
            <a:ext cx="402444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1T12:39:25Z</dcterms:created>
  <dc:creator>susan.brannon</dc:creator>
  <dc:description/>
  <dc:language>en-US</dc:language>
  <cp:lastModifiedBy>susan.brannon</cp:lastModifiedBy>
  <dcterms:modified xsi:type="dcterms:W3CDTF">2009-05-01T12:55:54Z</dcterms:modified>
  <cp:revision>1</cp:revision>
  <dc:subject/>
  <dc:title>Slide 1</dc:title>
</cp:coreProperties>
</file>