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923-FC58-4FBF-BA08-9D1242DB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399B-D8C8-4A71-959A-7A4D7685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8903-B652-49A9-9985-F3118D25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380-A3D1-457E-ACDA-80C75B71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C1BF-6ED1-4A10-B947-B3303960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E70-1C60-444A-8961-31E0D5B6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FEB5-211F-4F6E-BB95-5ED0D69A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C54-CB43-4BA1-B4BF-5FBDEBB9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763-FD39-4910-A979-B24E7B98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174-1F7E-41D1-A7BE-F23080BC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C40F-179C-40C1-9389-0F2CDE8C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E68-7705-4D20-84D5-7629B9D6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A5C2-7197-40ED-9FBC-D7122345E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eirdrichard.com/inclined.htm" TargetMode="External"/><Relationship Id="rId2" Type="http://schemas.openxmlformats.org/officeDocument/2006/relationships/hyperlink" Target="http://weirdrichard.com/inclined.htm" TargetMode="External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47304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lined Pla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inclined pla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surface set at an angle, other than a right angle, against a horizontal surface. Th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inclined pla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mits one to overcome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rge resis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applying a relative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mall for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rough a longer distance than the load is to be rai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eirdrichard.com/inclined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666880" y="2819520"/>
            <a:ext cx="402444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12:39:25Z</dcterms:created>
  <dc:creator>susan.brannon</dc:creator>
  <dc:description/>
  <dc:language>en-US</dc:language>
  <cp:lastModifiedBy>susan.brannon</cp:lastModifiedBy>
  <dcterms:modified xsi:type="dcterms:W3CDTF">2009-05-01T12:55:54Z</dcterms:modified>
  <cp:revision>1</cp:revision>
  <dc:subject/>
  <dc:title>Slide 1</dc:title>
</cp:coreProperties>
</file>