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1FB-CE48-4101-9E20-10C1FCDF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7406-2D83-40B8-B52F-AA73FF6F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71C3-D07E-4B88-A0BB-8F051CCF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DBC-7100-4586-BFDE-239E5C78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D568-7CFF-4149-9AC9-53DAC79F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3C1-DBD5-4D80-A83E-93D6357D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DBCB-3BB1-44E3-92DE-5EB49E39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7EB-022D-4666-8873-D919004F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5FB-C937-493E-A0DA-5B6BA544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DA2-C85D-4F8E-9B8C-B1ADAC17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1CC-8ADE-40A2-8B21-B0C4B75B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780-5D34-42EA-B0B7-52C7794C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1198-F8A6-4386-A993-5ABA627AE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reedieting.com/tools/calorie_calculator.htm" TargetMode="External"/><Relationship Id="rId2" Type="http://schemas.openxmlformats.org/officeDocument/2006/relationships/hyperlink" Target="http://calorielab.com/restaurants/mcdonalds/1" TargetMode="External"/><Relationship Id="rId3" Type="http://schemas.openxmlformats.org/officeDocument/2006/relationships/hyperlink" Target="http://calorielab.com/restaurants/a-and-w/96" TargetMode="External"/><Relationship Id="rId4" Type="http://schemas.openxmlformats.org/officeDocument/2006/relationships/hyperlink" Target="http://calorielab.com/restaurants/burger-king/3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"/>
              </a:rPr>
              <a:t>Calori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nkGothic Lt BT"/>
              </a:rPr>
              <a:t>By Rachel K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Calories add up f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Watch what you 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Make healthy cho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nkGothic Lt BT"/>
              </a:rPr>
              <a:t>Be ac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1664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omic"/>
              </a:rPr>
              <a:t>Think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816200" cy="14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reedieting.com/tools/calorie_calculator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alorielab.com/restaurants/mcdonalds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alorielab.com/restaurants/a-and-w/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alorielab.com/restaurants/burger-king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Do you even know what a calorie 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Calories measure energy, heat energy in particul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One calorie is the energy you need to heat one gram of water by one degree Celsi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When you eat more calories than you can use, your body will store them as fa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This fat is a pa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76680" y="350640"/>
            <a:ext cx="9829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Like McDonalds for breakfast?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Sausage Egg McMuffi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42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Hash Brown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136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ffe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: 538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cDonald’s Trust"/>
          <p:cNvPicPr/>
          <p:nvPr/>
        </p:nvPicPr>
        <p:blipFill>
          <a:blip r:embed="rId1"/>
          <a:stretch/>
        </p:blipFill>
        <p:spPr>
          <a:xfrm>
            <a:off x="3962520" y="1846440"/>
            <a:ext cx="4876560" cy="36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Some A &amp; W for lu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Mozza Burg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5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0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Root Beer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488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"/>
              </a:rPr>
              <a:t>TOTAL : 1448 CALORI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808200"/>
            <a:ext cx="2057400" cy="94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nkGothic Lt BT"/>
              </a:rPr>
              <a:t>Burger King for su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Whopper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67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Fries 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360 cal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nkGothic Lt BT"/>
              </a:rPr>
              <a:t>Coke:</a:t>
            </a:r>
            <a:r>
              <a:rPr b="0" lang="en-US" sz="4000" spc="-1" strike="noStrike">
                <a:solidFill>
                  <a:srgbClr val="000000"/>
                </a:solidFill>
                <a:latin typeface="BankGothic Lt B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nkGothic Lt BT"/>
              </a:rPr>
              <a:t>200 cal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"/>
              </a:rPr>
              <a:t>TOTAL : 1230 CALOR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1813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533520" y="4114800"/>
            <a:ext cx="1021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That all adds up to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cDonald’s Trust"/>
          <p:cNvPicPr/>
          <p:nvPr/>
        </p:nvPicPr>
        <p:blipFill>
          <a:blip r:embed="rId1"/>
          <a:stretch/>
        </p:blipFill>
        <p:spPr>
          <a:xfrm>
            <a:off x="-762120" y="0"/>
            <a:ext cx="4876920" cy="363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124080" y="1219320"/>
            <a:ext cx="3581640" cy="164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781680" y="990720"/>
            <a:ext cx="21448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0880" y="304920"/>
            <a:ext cx="8229600" cy="64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324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8000"/>
                  </a:srgbClr>
                </a:solidFill>
                <a:latin typeface="Impact"/>
              </a:rPr>
              <a:t>CAL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1357200"/>
            <a:ext cx="7924680" cy="5577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I took a few guess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ankGothic Lt BT"/>
              </a:rPr>
              <a:t>Mr. Brann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H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6 feet 2 i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Weight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190 pou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351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nkGothic Lt BT"/>
              </a:rPr>
              <a:t>Active </a:t>
            </a:r>
            <a:r>
              <a:rPr b="0" lang="en-US" sz="2800" spc="-1" strike="noStrike">
                <a:solidFill>
                  <a:srgbClr val="000000"/>
                </a:solidFill>
                <a:latin typeface="BankGothic Lt BT"/>
              </a:rPr>
              <a:t>: 3 times a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2152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the number of calories that Mr. Brannon should consume in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246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at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A person who is active twice a day –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3094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cal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Mr. Brannon's fast food diet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BankGothic Lt BT"/>
              </a:rPr>
              <a:t>exceeds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 this amount by </a:t>
            </a:r>
            <a:r>
              <a:rPr b="1" lang="en-US" sz="3200" spc="-1" strike="noStrike">
                <a:solidFill>
                  <a:srgbClr val="000000"/>
                </a:solidFill>
                <a:latin typeface="BankGothic Lt BT"/>
              </a:rPr>
              <a:t>152 </a:t>
            </a: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cal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could eat like this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You had a highly physical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nkGothic L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nkGothic Lt BT"/>
              </a:rPr>
              <a:t>Were physically active at least once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47:23Z</dcterms:created>
  <dc:creator>rachel.kish</dc:creator>
  <dc:description/>
  <dc:language>en-US</dc:language>
  <cp:lastModifiedBy>rachel.kish</cp:lastModifiedBy>
  <dcterms:modified xsi:type="dcterms:W3CDTF">2009-03-13T18:16:52Z</dcterms:modified>
  <cp:revision>7</cp:revision>
  <dc:subject/>
  <dc:title>Calories</dc:title>
</cp:coreProperties>
</file>