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D8C4-66AB-4285-91FF-84D43C0B8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2D50-FA41-4DE7-8BCB-504843E5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4375-0DE1-4321-B5A1-506686153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FF52-7045-46B1-AC4F-1812C66B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1C58-4A22-4329-BD41-623F2685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4324-DCA1-47A0-BB38-3ADBBFBD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8CC1-8F50-4B02-94CA-885CC63A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704C-E1AB-4D25-853B-69074ED9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D85C-6125-4078-B1E3-9325F6BA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E410-8AD4-41C4-8C79-3BB05CDE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BC6A-38A8-43F0-B739-F96CA823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AA32-53A1-42DB-94F7-EE56E373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D5FE-4046-4E13-A97D-542C23C54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reedieting.com/tools/calorie_calculator.htm" TargetMode="External"/><Relationship Id="rId2" Type="http://schemas.openxmlformats.org/officeDocument/2006/relationships/hyperlink" Target="http://calorielab.com/restaurants/mcdonalds/1" TargetMode="External"/><Relationship Id="rId3" Type="http://schemas.openxmlformats.org/officeDocument/2006/relationships/hyperlink" Target="http://calorielab.com/restaurants/a-and-w/96" TargetMode="External"/><Relationship Id="rId4" Type="http://schemas.openxmlformats.org/officeDocument/2006/relationships/hyperlink" Target="http://calorielab.com/restaurants/burger-king/3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"/>
              </a:rPr>
              <a:t>Calori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3428640"/>
            <a:ext cx="8001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ankGothic Lt BT"/>
              </a:rPr>
              <a:t>By Rachel Kis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52280" y="380520"/>
            <a:ext cx="8686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Calories add up fa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Watch what you e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Make healthy choi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Be acti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comic"/>
              </a:rPr>
              <a:t>Think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657600" y="4114800"/>
            <a:ext cx="1816200" cy="14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reedieting.com/tools/calorie_calculator.ht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alorielab.com/restaurants/mcdonalds/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calorielab.com/restaurants/a-and-w/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calorielab.com/restaurants/burger-king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Do you even know what a calorie 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Calories measure energy, heat energy in particula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One calorie is the energy you need to heat one gram of water by one degree Celsi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When you eat more calories than you can use, your body will store them as fa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This fat is a pa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-76680" y="350640"/>
            <a:ext cx="9829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ankGothic Lt BT"/>
              </a:rPr>
              <a:t>Like McDonalds for breakfast?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Sausage Egg McMuffin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342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Hash Brown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136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Coffee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40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"/>
              </a:rPr>
              <a:t>TOTAL: 538 CALORI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McDonald’s Trust"/>
          <p:cNvPicPr/>
          <p:nvPr/>
        </p:nvPicPr>
        <p:blipFill>
          <a:blip r:embed="rId1"/>
          <a:stretch/>
        </p:blipFill>
        <p:spPr>
          <a:xfrm>
            <a:off x="3962520" y="1846440"/>
            <a:ext cx="4876560" cy="363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ankGothic Lt BT"/>
              </a:rPr>
              <a:t>Some A &amp; W for lun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Mozza Burger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560 calo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Fries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400 calo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Root Beer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488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199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mic"/>
              </a:rPr>
              <a:t>TOTAL : 1448 CALORI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95480" y="808200"/>
            <a:ext cx="2057400" cy="94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ankGothic Lt BT"/>
              </a:rPr>
              <a:t>Burger King for supp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Whopper 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670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Fries 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360 calo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Coke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200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"/>
              </a:rPr>
              <a:t>TOTAL : 1230 CALORI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318132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-533520" y="4114800"/>
            <a:ext cx="10211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"/>
              </a:rPr>
              <a:t>That all adds up to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McDonald’s Trust"/>
          <p:cNvPicPr/>
          <p:nvPr/>
        </p:nvPicPr>
        <p:blipFill>
          <a:blip r:embed="rId1"/>
          <a:stretch/>
        </p:blipFill>
        <p:spPr>
          <a:xfrm>
            <a:off x="-762120" y="0"/>
            <a:ext cx="4876920" cy="3639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124080" y="1219320"/>
            <a:ext cx="3581640" cy="1644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781680" y="990720"/>
            <a:ext cx="214488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80880" y="304920"/>
            <a:ext cx="8229600" cy="647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>
                    <a:alpha val="98000"/>
                  </a:srgbClr>
                </a:solidFill>
                <a:latin typeface="Impact"/>
              </a:rPr>
              <a:t>324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>
                    <a:alpha val="98000"/>
                  </a:srgbClr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>
                    <a:alpha val="98000"/>
                  </a:srgbClr>
                </a:solidFill>
                <a:latin typeface="Impact"/>
              </a:rPr>
              <a:t>CALOR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>
                  <a:alpha val="98000"/>
                </a:srgbClr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19320" y="1357200"/>
            <a:ext cx="7924680" cy="5577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5228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I took a few guess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BankGothic Lt BT"/>
              </a:rPr>
              <a:t>Mr. Brann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351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nkGothic Lt BT"/>
              </a:rPr>
              <a:t>Height </a:t>
            </a:r>
            <a:r>
              <a:rPr b="0" lang="en-US" sz="2800" spc="-1" strike="noStrike">
                <a:solidFill>
                  <a:srgbClr val="000000"/>
                </a:solidFill>
                <a:latin typeface="BankGothic Lt BT"/>
              </a:rPr>
              <a:t>: 6 feet 2 in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351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nkGothic Lt BT"/>
              </a:rPr>
              <a:t>Weight </a:t>
            </a:r>
            <a:r>
              <a:rPr b="0" lang="en-US" sz="2800" spc="-1" strike="noStrike">
                <a:solidFill>
                  <a:srgbClr val="000000"/>
                </a:solidFill>
                <a:latin typeface="BankGothic Lt BT"/>
              </a:rPr>
              <a:t>: 190 poun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351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nkGothic Lt BT"/>
              </a:rPr>
              <a:t>Active </a:t>
            </a:r>
            <a:r>
              <a:rPr b="0" lang="en-US" sz="2800" spc="-1" strike="noStrike">
                <a:solidFill>
                  <a:srgbClr val="000000"/>
                </a:solidFill>
                <a:latin typeface="BankGothic Lt BT"/>
              </a:rPr>
              <a:t>: 3 times a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73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2152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is the number of calories that Mr. Brannon should consume in a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3246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1094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calories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BankGothic Lt BT"/>
              </a:rPr>
              <a:t>OVER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that am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A person who is active twice a day – </a:t>
            </a: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3094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cal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Mr. Brannon's fast food diet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BankGothic Lt BT"/>
              </a:rPr>
              <a:t>exceeds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this amount by </a:t>
            </a: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152 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calo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You could eat like this 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You had a highly physical j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Were physically active at least once a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7:47:23Z</dcterms:created>
  <dc:creator>rachel.kish</dc:creator>
  <dc:description/>
  <dc:language>en-US</dc:language>
  <cp:lastModifiedBy>rachel.kish</cp:lastModifiedBy>
  <dcterms:modified xsi:type="dcterms:W3CDTF">2009-03-13T18:16:52Z</dcterms:modified>
  <cp:revision>7</cp:revision>
  <dc:subject/>
  <dc:title>Calories</dc:title>
</cp:coreProperties>
</file>