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F7CC2-EA6B-418E-B7F4-50FFF8C91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DD979-00E8-4E32-9A82-24E22249E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8777E-D5FC-4E33-B260-E8785EF20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15909-399E-4884-9416-643B18DE9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6B0D7-81C7-4111-B3B6-25DD9F735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24622-E560-4BF4-B9BA-1B2527729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EC993-9D3B-4EE4-9FCC-3E91CA686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9E78B-A07C-4CF5-8E0C-A697C7F57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7E7FE-C050-457A-9C77-BDD6C8CF2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07377-3F23-4932-BA51-69DCA6165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C6CDB-0A28-495D-8D75-F45803865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E4D81-AC6E-4B4A-BE76-395225EF1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FF2BE-68A3-4DDF-8877-92F167EFD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F958E-E109-4A9F-BA38-AAE53514E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091CB-C9D7-495C-A993-D28B37BF7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3C0D6-77E8-437D-9A94-A3B418130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EF16E-F336-4307-BFE1-F7D64AF38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D964DF-45D9-471F-8242-4E497D1EA4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1F89CC-67FF-4A47-9010-EBAA224AA0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6C73DF-17BD-4329-B50A-A09975D824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80895E-EDFC-4EE3-923C-1737F36221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563795-2B3A-41E1-AE68-0222BAE896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93D98-F2D0-48DE-BF00-0649BAFB2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50C3E0-2632-48AD-A8E2-6E2DA42119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634A6-88F0-4A0A-BDB0-0FC310BE0B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09B123-BD42-4A37-A5D5-0BD0BCEEA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E5A48-0456-4B78-A826-CFC0D2A0E9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22C9CD-682F-49B1-9A29-51A8FE0E51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2448B7-D05E-4DB7-B732-9A2F951B4F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ADA30B-CB10-44A5-B85C-0C0BB2C46A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4815E7-3534-48AC-9A68-680F655753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82C21E-4675-4CC4-A5D4-87DF1E84D7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89D73D-07AD-4551-A1C8-7C9BBD36D5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B01C1-DB05-4BC9-9395-3DA223CD8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A336BB-4909-4C54-B1AF-6805486B52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50FE75-7ADD-470C-AE82-7C37AE37A9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B635FF-D6DD-406D-81C6-3E4DFDCD85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54F4FE-8722-4D25-9AA2-1A4D9AE5A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824AA-E508-4E89-9A98-949C0B7F95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CC234B-73DA-43ED-9712-D43E4B11F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555F97-BB2C-4331-B8D6-95F3AD573D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11B9F7-8E9A-4C31-9B5F-67B52AC716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C09662-2D30-485E-9FFB-CEAB866948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A347D-CB4F-4430-A04A-882CEFB81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9A79C-DB16-4216-9B3F-63524D7C1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C8A13-2FFA-4F0E-B97A-45A60FC17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B1E20-7BC3-4B43-A9B6-31AF7F41C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5E1B1-463E-4F4F-816F-AF951974B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0F90-E491-4138-8A98-4E959FA2F6C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E8EB-247E-40F1-B37A-D3E2914DD67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0228-9B11-4E2E-97EA-7653355D2DC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4312-243B-4B13-934F-EC7AB692B05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44848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troduction to CA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ivil Engineering</a:t>
            </a:r>
            <a:endParaRPr b="0" lang="en-US" sz="5000" spc="-1" strike="noStrike">
              <a:solidFill>
                <a:srgbClr val="04617b"/>
              </a:solidFill>
              <a:latin typeface="Calibri"/>
            </a:endParaRPr>
          </a:p>
        </p:txBody>
      </p:sp>
      <p:sp>
        <p:nvSpPr>
          <p:cNvPr id="225" name=""/>
          <p:cNvSpPr txBox="1"/>
          <p:nvPr/>
        </p:nvSpPr>
        <p:spPr>
          <a:xfrm>
            <a:off x="428760" y="5143680"/>
            <a:ext cx="8229600" cy="17143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rban planners use CAD software to plan urban infrastructure including bridges, parks, industrial units, office complexes and mor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6" name="Picture 2" descr="http://2.bp.blogspot.com/_RpY52qMAkOg/R1QX0iIVYFI/AAAAAAAAAJQ/2cVOJmdYWGE/s1600-R/frame2.jpg"/>
          <p:cNvPicPr/>
          <p:nvPr/>
        </p:nvPicPr>
        <p:blipFill>
          <a:blip r:embed="rId1"/>
          <a:stretch/>
        </p:blipFill>
        <p:spPr>
          <a:xfrm>
            <a:off x="1054080" y="1353960"/>
            <a:ext cx="5803920" cy="378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
          <p:cNvSpPr txBox="1"/>
          <p:nvPr/>
        </p:nvSpPr>
        <p:spPr>
          <a:xfrm>
            <a:off x="500040" y="3642840"/>
            <a:ext cx="8229600" cy="2768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are just a handful of the many uses of computer-aided design software. It’s also used to design consumer electronics, furniture, circuit boards, jewelry, theater and movie sets, product packaging and much more. </a:t>
            </a:r>
            <a:endParaRPr b="0" lang="en-US" sz="2600" spc="-1" strike="noStrike">
              <a:solidFill>
                <a:srgbClr val="000000"/>
              </a:solidFill>
              <a:latin typeface="Constantia"/>
            </a:endParaRPr>
          </a:p>
        </p:txBody>
      </p:sp>
      <p:pic>
        <p:nvPicPr>
          <p:cNvPr id="229" name="Picture 2" descr="http://www.flexiblecircuitpcb.com/upfiles/12802013912-layers-PCB-ENIG.jpg"/>
          <p:cNvPicPr/>
          <p:nvPr/>
        </p:nvPicPr>
        <p:blipFill>
          <a:blip r:embed="rId1"/>
          <a:stretch/>
        </p:blipFill>
        <p:spPr>
          <a:xfrm>
            <a:off x="2214720" y="357120"/>
            <a:ext cx="4733640" cy="337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a:t>
            </a:r>
            <a:endParaRPr b="0" lang="en-US" sz="5000" spc="-1" strike="noStrike">
              <a:solidFill>
                <a:srgbClr val="04617b"/>
              </a:solidFill>
              <a:latin typeface="Calibri"/>
            </a:endParaRPr>
          </a:p>
        </p:txBody>
      </p:sp>
      <p:sp>
        <p:nvSpPr>
          <p:cNvPr id="198" name=""/>
          <p:cNvSpPr txBox="1"/>
          <p:nvPr/>
        </p:nvSpPr>
        <p:spPr>
          <a:xfrm>
            <a:off x="714240" y="4000320"/>
            <a:ext cx="7972560" cy="226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fore CAD software, the development of any type of design or prototype was done manually. Development was tedious and time-consuming, with costly trial and error. CAD software has replaced traditional drafting.</a:t>
            </a:r>
            <a:endParaRPr b="0" lang="en-US" sz="2600" spc="-1" strike="noStrike">
              <a:solidFill>
                <a:srgbClr val="000000"/>
              </a:solidFill>
              <a:latin typeface="Constantia"/>
            </a:endParaRPr>
          </a:p>
        </p:txBody>
      </p:sp>
      <p:pic>
        <p:nvPicPr>
          <p:cNvPr id="199" name="Picture 2" descr="https://encrypted-tbn1.gstatic.com/images?q=tbn:ANd9GcQ626apV3wcGtHKEiA0x53UuakheRVdd9iY0zk45uohsbYFPwxC"/>
          <p:cNvPicPr/>
          <p:nvPr/>
        </p:nvPicPr>
        <p:blipFill>
          <a:blip r:embed="rId1"/>
          <a:stretch/>
        </p:blipFill>
        <p:spPr>
          <a:xfrm>
            <a:off x="1571760" y="1857240"/>
            <a:ext cx="565776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rchitecture</a:t>
            </a:r>
            <a:endParaRPr b="0" lang="en-US" sz="5000" spc="-1" strike="noStrike">
              <a:solidFill>
                <a:srgbClr val="04617b"/>
              </a:solidFill>
              <a:latin typeface="Calibri"/>
            </a:endParaRPr>
          </a:p>
        </p:txBody>
      </p:sp>
      <p:sp>
        <p:nvSpPr>
          <p:cNvPr id="201" name=""/>
          <p:cNvSpPr txBox="1"/>
          <p:nvPr/>
        </p:nvSpPr>
        <p:spPr>
          <a:xfrm>
            <a:off x="357120" y="3929040"/>
            <a:ext cx="8329680" cy="29289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creating something as large and as expensive as a building, flawless planning is a must. CAD software is used to design 2D floor plans of houses, office buildings and other commercial structures. The software is also used to determine proper specifications including measurements.</a:t>
            </a:r>
            <a:endParaRPr b="0" lang="en-US" sz="2600" spc="-1" strike="noStrike">
              <a:solidFill>
                <a:srgbClr val="000000"/>
              </a:solidFill>
              <a:latin typeface="Constantia"/>
            </a:endParaRPr>
          </a:p>
        </p:txBody>
      </p:sp>
      <p:pic>
        <p:nvPicPr>
          <p:cNvPr id="202" name="Picture 2" descr="Skyline"/>
          <p:cNvPicPr/>
          <p:nvPr/>
        </p:nvPicPr>
        <p:blipFill>
          <a:blip r:embed="rId1"/>
          <a:stretch/>
        </p:blipFill>
        <p:spPr>
          <a:xfrm>
            <a:off x="1285920" y="1571760"/>
            <a:ext cx="636264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utomotive</a:t>
            </a:r>
            <a:endParaRPr b="0" lang="en-US" sz="5000" spc="-1" strike="noStrike">
              <a:solidFill>
                <a:srgbClr val="04617b"/>
              </a:solidFill>
              <a:latin typeface="Calibri"/>
            </a:endParaRPr>
          </a:p>
        </p:txBody>
      </p:sp>
      <p:sp>
        <p:nvSpPr>
          <p:cNvPr id="204" name=""/>
          <p:cNvSpPr txBox="1"/>
          <p:nvPr/>
        </p:nvSpPr>
        <p:spPr>
          <a:xfrm>
            <a:off x="457200" y="4285800"/>
            <a:ext cx="8229600" cy="18399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phisticated design software is used in every aspect of auto design. It’s used to create prototypes of new body styles and to design auto components such as tires, engines, circuitry boards, upholstery and more.</a:t>
            </a:r>
            <a:endParaRPr b="0" lang="en-US" sz="2600" spc="-1" strike="noStrike">
              <a:solidFill>
                <a:srgbClr val="000000"/>
              </a:solidFill>
              <a:latin typeface="Constantia"/>
            </a:endParaRPr>
          </a:p>
        </p:txBody>
      </p:sp>
      <p:pic>
        <p:nvPicPr>
          <p:cNvPr id="205" name="Picture 2" descr="Audi RSQ, car from I-robot movie"/>
          <p:cNvPicPr/>
          <p:nvPr/>
        </p:nvPicPr>
        <p:blipFill>
          <a:blip r:embed="rId1"/>
          <a:stretch/>
        </p:blipFill>
        <p:spPr>
          <a:xfrm>
            <a:off x="500040" y="1214280"/>
            <a:ext cx="4218120" cy="3146760"/>
          </a:xfrm>
          <a:prstGeom prst="rect">
            <a:avLst/>
          </a:prstGeom>
          <a:ln w="0">
            <a:noFill/>
          </a:ln>
        </p:spPr>
      </p:pic>
      <p:pic>
        <p:nvPicPr>
          <p:cNvPr id="206" name="Picture 4" descr="R�tromobile 2005 - Prototypes of Yesterday, Cars of Tomorrow - 1952 SOCEMA Gregoire"/>
          <p:cNvPicPr/>
          <p:nvPr/>
        </p:nvPicPr>
        <p:blipFill>
          <a:blip r:embed="rId2"/>
          <a:stretch/>
        </p:blipFill>
        <p:spPr>
          <a:xfrm>
            <a:off x="4724280" y="785880"/>
            <a:ext cx="4321440" cy="314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New Brunswick 1 to 10k topo index"/>
          <p:cNvPicPr/>
          <p:nvPr/>
        </p:nvPicPr>
        <p:blipFill>
          <a:blip r:embed="rId1"/>
          <a:stretch/>
        </p:blipFill>
        <p:spPr>
          <a:xfrm>
            <a:off x="357120" y="285840"/>
            <a:ext cx="3857760" cy="3524040"/>
          </a:xfrm>
          <a:prstGeom prst="rect">
            <a:avLst/>
          </a:prstGeom>
          <a:ln w="0">
            <a:noFill/>
          </a:ln>
        </p:spPr>
      </p:pic>
      <p:pic>
        <p:nvPicPr>
          <p:cNvPr id="208" name="Picture 2" descr="New Brunswick Counties Map"/>
          <p:cNvPicPr/>
          <p:nvPr/>
        </p:nvPicPr>
        <p:blipFill>
          <a:blip r:embed="rId2"/>
          <a:stretch/>
        </p:blipFill>
        <p:spPr>
          <a:xfrm>
            <a:off x="4869000" y="785880"/>
            <a:ext cx="4157640" cy="3714840"/>
          </a:xfrm>
          <a:prstGeom prst="rect">
            <a:avLst/>
          </a:prstGeom>
          <a:ln w="0">
            <a:noFill/>
          </a:ln>
        </p:spPr>
      </p:pic>
      <p:sp>
        <p:nvSpPr>
          <p:cNvPr id="209"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artography</a:t>
            </a:r>
            <a:endParaRPr b="0" lang="en-US" sz="5000" spc="-1" strike="noStrike">
              <a:solidFill>
                <a:srgbClr val="04617b"/>
              </a:solidFill>
              <a:latin typeface="Calibri"/>
            </a:endParaRPr>
          </a:p>
        </p:txBody>
      </p:sp>
      <p:sp>
        <p:nvSpPr>
          <p:cNvPr id="210" name=""/>
          <p:cNvSpPr txBox="1"/>
          <p:nvPr/>
        </p:nvSpPr>
        <p:spPr>
          <a:xfrm>
            <a:off x="457200" y="4500360"/>
            <a:ext cx="8229600" cy="16254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rn map makers use some form of computer-aided software to chart climate, road and topographic map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http://www.landscapingcalgary.org/images/landscape%20design.jpg"/>
          <p:cNvPicPr/>
          <p:nvPr/>
        </p:nvPicPr>
        <p:blipFill>
          <a:blip r:embed="rId1"/>
          <a:stretch/>
        </p:blipFill>
        <p:spPr>
          <a:xfrm>
            <a:off x="0" y="785880"/>
            <a:ext cx="5477040" cy="3314520"/>
          </a:xfrm>
          <a:prstGeom prst="rect">
            <a:avLst/>
          </a:prstGeom>
          <a:ln w="0">
            <a:noFill/>
          </a:ln>
        </p:spPr>
      </p:pic>
      <p:sp>
        <p:nvSpPr>
          <p:cNvPr id="212" name="PlaceHolder 1"/>
          <p:cNvSpPr>
            <a:spLocks noGrp="1"/>
          </p:cNvSpPr>
          <p:nvPr>
            <p:ph type="title"/>
          </p:nvPr>
        </p:nvSpPr>
        <p:spPr>
          <a:xfrm>
            <a:off x="4143240" y="5214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Landscaping</a:t>
            </a:r>
            <a:endParaRPr b="0" lang="en-US" sz="5000" spc="-1" strike="noStrike">
              <a:solidFill>
                <a:srgbClr val="04617b"/>
              </a:solidFill>
              <a:latin typeface="Calibri"/>
            </a:endParaRPr>
          </a:p>
        </p:txBody>
      </p:sp>
      <p:sp>
        <p:nvSpPr>
          <p:cNvPr id="213" name=""/>
          <p:cNvSpPr txBox="1"/>
          <p:nvPr/>
        </p:nvSpPr>
        <p:spPr>
          <a:xfrm>
            <a:off x="5285880" y="714240"/>
            <a:ext cx="3543480" cy="5429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scapers use CAD software to create stunning outdoor creations and determine the best placement of various landscaping components such as trees, fences, gardens, patios and more.</a:t>
            </a:r>
            <a:endParaRPr b="0" lang="en-US" sz="2600" spc="-1" strike="noStrike">
              <a:solidFill>
                <a:srgbClr val="000000"/>
              </a:solidFill>
              <a:latin typeface="Constantia"/>
            </a:endParaRPr>
          </a:p>
        </p:txBody>
      </p:sp>
      <p:pic>
        <p:nvPicPr>
          <p:cNvPr id="214" name="Picture 4" descr="http://keychai.com/wp-content/uploads/2014/04/Rosenberg-landscape-design.jpg"/>
          <p:cNvPicPr/>
          <p:nvPr/>
        </p:nvPicPr>
        <p:blipFill>
          <a:blip r:embed="rId2"/>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http://www.designbyu.com/wp-content/uploads/2014/07/modern-home-interior-design.jpg"/>
          <p:cNvPicPr/>
          <p:nvPr/>
        </p:nvPicPr>
        <p:blipFill>
          <a:blip r:embed="rId1"/>
          <a:stretch/>
        </p:blipFill>
        <p:spPr>
          <a:xfrm>
            <a:off x="1143000" y="1143000"/>
            <a:ext cx="6572160" cy="4106880"/>
          </a:xfrm>
          <a:prstGeom prst="rect">
            <a:avLst/>
          </a:prstGeom>
          <a:ln w="0">
            <a:noFill/>
          </a:ln>
        </p:spPr>
      </p:pic>
      <p:sp>
        <p:nvSpPr>
          <p:cNvPr id="216"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Interior Design</a:t>
            </a:r>
            <a:endParaRPr b="0" lang="en-US" sz="5000" spc="-1" strike="noStrike">
              <a:solidFill>
                <a:srgbClr val="04617b"/>
              </a:solidFill>
              <a:latin typeface="Calibri"/>
            </a:endParaRPr>
          </a:p>
        </p:txBody>
      </p:sp>
      <p:sp>
        <p:nvSpPr>
          <p:cNvPr id="217" name=""/>
          <p:cNvSpPr txBox="1"/>
          <p:nvPr/>
        </p:nvSpPr>
        <p:spPr>
          <a:xfrm>
            <a:off x="0" y="5286240"/>
            <a:ext cx="9144000" cy="1571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ign software allows interior designers to show clients, right down to the paint color, what the project will look like upon comple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Fashion</a:t>
            </a:r>
            <a:endParaRPr b="0" lang="en-US" sz="5000" spc="-1" strike="noStrike">
              <a:solidFill>
                <a:srgbClr val="04617b"/>
              </a:solidFill>
              <a:latin typeface="Calibri"/>
            </a:endParaRPr>
          </a:p>
        </p:txBody>
      </p:sp>
      <p:sp>
        <p:nvSpPr>
          <p:cNvPr id="219" name=""/>
          <p:cNvSpPr txBox="1"/>
          <p:nvPr/>
        </p:nvSpPr>
        <p:spPr>
          <a:xfrm>
            <a:off x="4071600" y="1428840"/>
            <a:ext cx="4614840" cy="492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shion CAD software is used by clothing manufacturers to determine the most efficient cut of fabrics, adjust the scale of the pattern for different sizes. Using virtual models, the software can even be used to show how the clothing will fit and move. </a:t>
            </a:r>
            <a:endParaRPr b="0" lang="en-US" sz="2600" spc="-1" strike="noStrike">
              <a:solidFill>
                <a:srgbClr val="000000"/>
              </a:solidFill>
              <a:latin typeface="Constantia"/>
            </a:endParaRPr>
          </a:p>
        </p:txBody>
      </p:sp>
      <p:pic>
        <p:nvPicPr>
          <p:cNvPr id="220" name="Picture 4" descr="http://thumbs.dreamstime.com/z/fashion-design-sketches-silhouette-format-36126720.jpg"/>
          <p:cNvPicPr/>
          <p:nvPr/>
        </p:nvPicPr>
        <p:blipFill>
          <a:blip r:embed="rId1"/>
          <a:stretch/>
        </p:blipFill>
        <p:spPr>
          <a:xfrm>
            <a:off x="357120" y="2643120"/>
            <a:ext cx="3571920" cy="381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3" name="Picture 2" descr="http://4.bp.blogspot.com/-Xi3ag5tUGu8/T5ag5hpS-RI/AAAAAAAABOM/Ndoojj5Kb44/s1600/Winfashion_CAD_Pattern_Making_To_Cutting_.jpg"/>
          <p:cNvPicPr/>
          <p:nvPr/>
        </p:nvPicPr>
        <p:blipFill>
          <a:blip r:embed="rId1"/>
          <a:stretch/>
        </p:blipFill>
        <p:spPr>
          <a:xfrm>
            <a:off x="63360" y="208080"/>
            <a:ext cx="9294840" cy="697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2T11:42:49Z</dcterms:created>
  <dc:creator>ED18</dc:creator>
  <dc:description/>
  <dc:language>en-US</dc:language>
  <cp:lastModifiedBy>ED18</cp:lastModifiedBy>
  <dcterms:modified xsi:type="dcterms:W3CDTF">2014-10-02T13:58:59Z</dcterms:modified>
  <cp:revision>13</cp:revision>
  <dc:subject/>
  <dc:title>Many Uses of Computer Aided Design</dc:title>
</cp:coreProperties>
</file>