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A4C-0BF0-4E00-83B1-14861BB3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ACF-5AB3-48E2-9E1C-635A3A19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3E3-365D-450C-9888-028DCCBF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C8D-84D3-4795-AD92-837C5ADF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309-2594-4AE5-B446-492A17E8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74C-E18E-444B-B67F-8541C238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F2B-63B1-4DE7-83F5-8AA7B4B4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7E8-EF7E-443E-B973-4299FFA0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ABD-601B-49FB-B833-7D7EC904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413-A2B9-4D1F-8A58-02724432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070-5034-4EB8-8215-2AF0C81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A77-49DC-4A16-89DB-6CB4AAB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2D44-2DB8-42A3-8F40-47F7F81F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chemistry/1/0/q/_/apple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a/ab/Apple-logo.png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ats-your-sign.com/celtic-meaning-apple-tree.html" TargetMode="External"/><Relationship Id="rId2" Type="http://schemas.openxmlformats.org/officeDocument/2006/relationships/hyperlink" Target="http://everystockphoto.s3.amazonaws.com/apple_green_fruit_240421_l.jpg" TargetMode="External"/><Relationship Id="rId3" Type="http://schemas.openxmlformats.org/officeDocument/2006/relationships/hyperlink" Target="http://upload.wikimedia.org/wikipedia/en/thumb/c/c4/Apple_Computer_Logo.svg/500px-Apple_Computer_Logo.svg.png" TargetMode="External"/><Relationship Id="rId4" Type="http://schemas.openxmlformats.org/officeDocument/2006/relationships/hyperlink" Target="http://www.hort.purdue.edu/ext/senior/fruits/apple1.htm" TargetMode="External"/><Relationship Id="rId5" Type="http://schemas.openxmlformats.org/officeDocument/2006/relationships/hyperlink" Target="http://en.wikipedia.org/wiki/Apple_Computer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rush Script MT"/>
              </a:rPr>
              <a:t>By Lauren Hilde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76212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759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pples</a:t>
            </a:r>
            <a:endParaRPr b="0" lang="en-US" sz="1800" spc="1" strike="noStrike">
              <a:ln w="25560">
                <a:solidFill>
                  <a:srgbClr val="759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sp>
        <p:nvSpPr>
          <p:cNvPr id="44" name=""/>
          <p:cNvSpPr/>
          <p:nvPr/>
        </p:nvSpPr>
        <p:spPr>
          <a:xfrm>
            <a:off x="6561000" y="65055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.about.com/d/chemistry/1/0/q/_/app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8960" y="609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“apple”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uld mean many different things in the world today. It could me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01800"/>
            <a:ext cx="4876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Computer Softw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fa7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Big Apple” (NY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Symbol f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Name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8162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6379" t="0" r="14740" b="0"/>
          <a:stretch/>
        </p:blipFill>
        <p:spPr>
          <a:xfrm>
            <a:off x="152280" y="2743200"/>
            <a:ext cx="2895840" cy="23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838080" y="6858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7913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99"/>
                </a:solidFill>
                <a:latin typeface="Arial"/>
              </a:rPr>
              <a:t>Chris Martin and Gwyneth Paltrow's daughter Apple Marti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have a rounded shape with a dent at the top where the stem is att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grow 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 skin of the apple can be red, green, yellow, or a combination of these co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 trees can range in size from 6 to 30 feet in h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re are also different types like- Cortland, Empire, Gala, Golden Delicious, Red Delicious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520" y="304920"/>
            <a:ext cx="388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5d7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The Fruit</a:t>
            </a:r>
            <a:endParaRPr b="0" lang="en-US" sz="1800" spc="1" strike="noStrike">
              <a:ln w="31680">
                <a:solidFill>
                  <a:srgbClr val="5d7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109" b="6718"/>
          <a:stretch/>
        </p:blipFill>
        <p:spPr>
          <a:xfrm rot="1161000">
            <a:off x="6781320" y="1066320"/>
            <a:ext cx="1673280" cy="182736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0397000">
            <a:off x="6497640" y="2866680"/>
            <a:ext cx="1657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790" t="0" r="20469" b="2568"/>
          <a:stretch/>
        </p:blipFill>
        <p:spPr>
          <a:xfrm rot="2184000">
            <a:off x="7010280" y="4647960"/>
            <a:ext cx="1603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 Inc. is an American multinational corporation which designs and manufactures consumer electronics and software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he company's best-known hardware products includes  Macintosh computers, the iPod and the iPhone.</a:t>
            </a:r>
            <a:r>
              <a:rPr b="1" lang="en-US" sz="2000" spc="-1" strike="noStrike">
                <a:solidFill>
                  <a:srgbClr val="7fac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6858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Brush Script MT"/>
              </a:rPr>
              <a:t>The Computer Software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Brush Script MT"/>
              <a:ea typeface="Brush Script MT"/>
            </a:endParaRPr>
          </a:p>
        </p:txBody>
      </p:sp>
      <p:pic>
        <p:nvPicPr>
          <p:cNvPr id="65" name="" descr="File:Apple-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457200"/>
            <a:ext cx="94932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3948120"/>
            <a:ext cx="4724640" cy="29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228600"/>
            <a:ext cx="7086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‘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Big Apple’ (New York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19320"/>
            <a:ext cx="6553080" cy="22096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343400" cy="31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376236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5640" y="1447560"/>
            <a:ext cx="6629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"The Big Apple" was the catchphrase of New York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Morning Telegraph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track writer John J. Fitz Gerald in the 1920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He picked up the term from African-American stable hands at the Fair Grounds racetrack in New Orleans, probably on January 14, 19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86200" y="1752480"/>
            <a:ext cx="525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s are a traditional present for teachers in the United States, Denmark, and Swe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ome think the practice originated as a simple gift of food for poorly paid teac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thers think the good health associated with apples made the present particularly meaningful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533520"/>
            <a:ext cx="556272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 symbol for schoo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35830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239000">
            <a:off x="7543440" y="304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20791800">
            <a:off x="304560" y="456840"/>
            <a:ext cx="121896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510552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name Apple is femin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American meaning is- “sweet fruit, cherished 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ate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99"/>
                </a:solidFill>
                <a:latin typeface="Brush Script MT"/>
              </a:rPr>
              <a:t>The Name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99"/>
              </a:solidFill>
              <a:latin typeface="Brush Script MT"/>
              <a:ea typeface="Brush Script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3520" cy="300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 flipH="1" flipV="1">
            <a:off x="1447920" y="411480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33412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wyneth Paltrow's daughter -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pple Blythe Aliso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3962520"/>
            <a:ext cx="1716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1330" r="50013" b="0"/>
          <a:stretch/>
        </p:blipFill>
        <p:spPr>
          <a:xfrm rot="1788000">
            <a:off x="7315200" y="3045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31330" r="50013" b="0"/>
          <a:stretch/>
        </p:blipFill>
        <p:spPr>
          <a:xfrm rot="20078400">
            <a:off x="456840" y="22824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6341" r="3997" b="0"/>
          <a:stretch/>
        </p:blipFill>
        <p:spPr>
          <a:xfrm>
            <a:off x="0" y="533520"/>
            <a:ext cx="86868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1"/>
              </a:rPr>
              <a:t>http://www.whats-your-sign.com/celtic-meaning-apple-tr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2"/>
              </a:rPr>
              <a:t>http://everystockphoto.s3.amazonaws.com/apple_green_fruit_240421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3"/>
              </a:rPr>
              <a:t>http://upload.wikimedia.org/wikipedia/en/thumb/c/c4/Apple_Computer_Logo.svg/500px-Apple_Computer_Logo.sv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4"/>
              </a:rPr>
              <a:t>http://www.hort.purdue.edu/ext/senior/fruits/apple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5"/>
              </a:rPr>
              <a:t>http://en.wikipedia.org/wiki/Apple_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mages/FitzGerald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ndex.php/new_york_city/entry/summary_why_is_new_york_called_the_big_app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ask.yahoo.com/200604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all-babynames.com/meaning-of-name-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380880"/>
            <a:ext cx="5562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cccc"/>
                </a:solidFill>
                <a:latin typeface="Brush Script MT"/>
              </a:rPr>
              <a:t>References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33cccc"/>
              </a:solidFill>
              <a:latin typeface="Brush Script MT"/>
              <a:ea typeface="Brush Script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42:43Z</dcterms:created>
  <dc:creator>lauren.hildebrand</dc:creator>
  <dc:description/>
  <dc:language>en-US</dc:language>
  <cp:lastModifiedBy>lauren.hildebrand</cp:lastModifiedBy>
  <dcterms:modified xsi:type="dcterms:W3CDTF">2009-03-26T15:43:02Z</dcterms:modified>
  <cp:revision>22</cp:revision>
  <dc:subject/>
  <dc:title>Slide 1</dc:title>
</cp:coreProperties>
</file>