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wmf" ContentType="image/x-wmf"/>
  <Override PartName="/ppt/media/image15.png" ContentType="image/png"/>
  <Override PartName="/ppt/media/image22.jpeg" ContentType="image/jpeg"/>
  <Override PartName="/ppt/media/image1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67B5-C741-4380-A2A0-E691CDB4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D659-8ABA-403D-9400-AF1B828D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2B6E-3365-454E-A5E7-D886A089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2ACB-53D1-436C-97E6-D7D64D1E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4EFD-1B7A-4DEA-8604-19B7F05A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825B-C887-40F5-91F5-7A35C17B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0D99-5FA8-46B3-B12F-3A0D3E49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40D3-62B0-4E92-91D4-F37B2E66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E51F-F76B-4213-B12A-052C81E6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A161-F144-47C8-B695-3640D4D2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05E2-7125-43A8-8019-0D13B9F7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E456-1E63-4829-90F0-E33331F1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6169-2C7A-4523-B4C7-61BAB55E1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z.about.com/d/chemistry/1/0/q/_/apple.jp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a/ab/Apple-logo.png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hats-your-sign.com/celtic-meaning-apple-tree.html" TargetMode="External"/><Relationship Id="rId2" Type="http://schemas.openxmlformats.org/officeDocument/2006/relationships/hyperlink" Target="http://everystockphoto.s3.amazonaws.com/apple_green_fruit_240421_l.jpg" TargetMode="External"/><Relationship Id="rId3" Type="http://schemas.openxmlformats.org/officeDocument/2006/relationships/hyperlink" Target="http://upload.wikimedia.org/wikipedia/en/thumb/c/c4/Apple_Computer_Logo.svg/500px-Apple_Computer_Logo.svg.png" TargetMode="External"/><Relationship Id="rId4" Type="http://schemas.openxmlformats.org/officeDocument/2006/relationships/hyperlink" Target="http://www.hort.purdue.edu/ext/senior/fruits/apple1.htm" TargetMode="External"/><Relationship Id="rId5" Type="http://schemas.openxmlformats.org/officeDocument/2006/relationships/hyperlink" Target="http://en.wikipedia.org/wiki/Apple_Computer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757080"/>
            <a:ext cx="9144000" cy="6100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4792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Brush Script MT"/>
              </a:rPr>
              <a:t>By Lauren Hildeb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666880" y="762120"/>
            <a:ext cx="3886200" cy="10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759e00"/>
                  </a:solidFill>
                  <a:miter/>
                </a:ln>
                <a:solidFill>
                  <a:srgbClr val="99cc00"/>
                </a:solidFill>
                <a:latin typeface="Brush Script MT"/>
              </a:rPr>
              <a:t>Apples</a:t>
            </a:r>
            <a:endParaRPr b="0" lang="en-US" sz="1800" spc="1" strike="noStrike">
              <a:ln w="25560">
                <a:solidFill>
                  <a:srgbClr val="759e00"/>
                </a:solidFill>
                <a:miter/>
              </a:ln>
              <a:solidFill>
                <a:srgbClr val="99cc00"/>
              </a:solidFill>
              <a:latin typeface="Brush Script MT"/>
              <a:ea typeface="Brush Script MT"/>
            </a:endParaRPr>
          </a:p>
        </p:txBody>
      </p:sp>
      <p:sp>
        <p:nvSpPr>
          <p:cNvPr id="44" name=""/>
          <p:cNvSpPr/>
          <p:nvPr/>
        </p:nvSpPr>
        <p:spPr>
          <a:xfrm>
            <a:off x="6561000" y="6505560"/>
            <a:ext cx="233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z.about.com/d/chemistry/1/0/q/_/apple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5.0)">
                                      <p:cBhvr>
                                        <p:cTn id="10" dur="10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18960" y="6094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he word </a:t>
            </a: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“apple”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could mean many different things in the world today. It could mea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67080" y="2701800"/>
            <a:ext cx="4876920" cy="43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The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The Computer Software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fa7d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The Big Apple” (NY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A Symbol for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A Name of a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2816280" cy="3124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28600" y="28195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28600" y="2514600"/>
            <a:ext cx="2762280" cy="2857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rcRect l="6379" t="0" r="14740" b="0"/>
          <a:stretch/>
        </p:blipFill>
        <p:spPr>
          <a:xfrm>
            <a:off x="152280" y="2743200"/>
            <a:ext cx="2895840" cy="2371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>
            <a:off x="838080" y="68580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579132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99"/>
                </a:solidFill>
                <a:latin typeface="Arial"/>
              </a:rPr>
              <a:t>Chris Martin and Gwyneth Paltrow's daughter Apple Martin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9000"/>
                            </p:stCondLst>
                            <p:childTnLst>
                              <p:par>
                                <p:cTn id="6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2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7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d7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7e00"/>
                </a:solidFill>
                <a:latin typeface="Bookman Old Style"/>
              </a:rPr>
              <a:t>Apples have a rounded shape with a dent at the top where the stem is attach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d7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7e00"/>
                </a:solidFill>
                <a:latin typeface="Bookman Old Style"/>
              </a:rPr>
              <a:t>Apples grow on 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d7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7e00"/>
                </a:solidFill>
                <a:latin typeface="Bookman Old Style"/>
              </a:rPr>
              <a:t>The skin of the apple can be red, green, yellow, or a combination of these col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d7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7e00"/>
                </a:solidFill>
                <a:latin typeface="Bookman Old Style"/>
              </a:rPr>
              <a:t>Apple trees can range in size from 6 to 30 feet in he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d7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7e00"/>
                </a:solidFill>
                <a:latin typeface="Bookman Old Style"/>
              </a:rPr>
              <a:t>There are also different types like- Cortland, Empire, Gala, Golden Delicious, Red Delicious etc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19520" y="304920"/>
            <a:ext cx="38862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5d7e00"/>
                  </a:solidFill>
                  <a:miter/>
                </a:ln>
                <a:solidFill>
                  <a:srgbClr val="99cc00"/>
                </a:solidFill>
                <a:latin typeface="Brush Script MT"/>
              </a:rPr>
              <a:t>The Fruit</a:t>
            </a:r>
            <a:endParaRPr b="0" lang="en-US" sz="1800" spc="1" strike="noStrike">
              <a:ln w="31680">
                <a:solidFill>
                  <a:srgbClr val="5d7e00"/>
                </a:solidFill>
                <a:miter/>
              </a:ln>
              <a:solidFill>
                <a:srgbClr val="99cc00"/>
              </a:solidFill>
              <a:latin typeface="Brush Script MT"/>
              <a:ea typeface="Brush Script MT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0" t="0" r="22109" b="6718"/>
          <a:stretch/>
        </p:blipFill>
        <p:spPr>
          <a:xfrm rot="1161000">
            <a:off x="6781320" y="1066320"/>
            <a:ext cx="1673280" cy="1827360"/>
          </a:xfrm>
          <a:prstGeom prst="rect">
            <a:avLst/>
          </a:prstGeom>
          <a:ln w="25560">
            <a:solidFill>
              <a:srgbClr val="5d7e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rot="20397000">
            <a:off x="6497640" y="2866680"/>
            <a:ext cx="1657440" cy="1828800"/>
          </a:xfrm>
          <a:prstGeom prst="rect">
            <a:avLst/>
          </a:prstGeom>
          <a:ln w="25560">
            <a:solidFill>
              <a:srgbClr val="5d7e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4"/>
          <a:srcRect l="3790" t="0" r="20469" b="2568"/>
          <a:stretch/>
        </p:blipFill>
        <p:spPr>
          <a:xfrm rot="2184000">
            <a:off x="7010280" y="4647960"/>
            <a:ext cx="1603440" cy="1828800"/>
          </a:xfrm>
          <a:prstGeom prst="rect">
            <a:avLst/>
          </a:prstGeom>
          <a:ln w="25560">
            <a:solidFill>
              <a:srgbClr val="5d7e00"/>
            </a:solidFill>
            <a:miter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Apple Inc. is an American multinational corporation which designs and manufactures consumer electronics and software produ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The company's best-known hardware products includes  Macintosh computers, the iPod and the iPhone.</a:t>
            </a:r>
            <a:r>
              <a:rPr b="1" lang="en-US" sz="2000" spc="-1" strike="noStrike">
                <a:solidFill>
                  <a:srgbClr val="7fac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685800"/>
            <a:ext cx="6858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10800000"/>
                </a:gradFill>
                <a:latin typeface="Brush Script MT"/>
              </a:rPr>
              <a:t>The Computer Software</a:t>
            </a:r>
            <a:endParaRPr b="0" lang="en-US" sz="1800" spc="1" strike="noStrike">
              <a:ln w="2232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10800000"/>
              </a:gradFill>
              <a:latin typeface="Brush Script MT"/>
              <a:ea typeface="Brush Script MT"/>
            </a:endParaRPr>
          </a:p>
        </p:txBody>
      </p:sp>
      <p:pic>
        <p:nvPicPr>
          <p:cNvPr id="65" name="" descr="File:Apple-log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24680" y="457200"/>
            <a:ext cx="949320" cy="1162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209680" y="3948120"/>
            <a:ext cx="4724640" cy="2909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562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9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42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295280" y="228600"/>
            <a:ext cx="708660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rush Script MT"/>
              </a:rPr>
              <a:t>‘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rush Script MT"/>
              </a:rPr>
              <a:t>The Big Apple’ (New York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rush Script MT"/>
              <a:ea typeface="Brush Script MT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1219320"/>
            <a:ext cx="6553080" cy="2209680"/>
          </a:xfrm>
          <a:prstGeom prst="rect">
            <a:avLst/>
          </a:prstGeom>
          <a:solidFill>
            <a:srgbClr val="00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962520" y="3429000"/>
            <a:ext cx="4343400" cy="3184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304920"/>
            <a:ext cx="3762360" cy="6553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5640" y="1447560"/>
            <a:ext cx="6629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"The Big Apple" was the catchphrase of New York 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Morning Telegraph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 track writer John J. Fitz Gerald in the 1920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He picked up the term from African-American stable hands at the Fair Grounds racetrack in New Orleans, probably on January 14, 192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86868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86200" y="1752480"/>
            <a:ext cx="525780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Apples are a traditional present for teachers in the United States, Denmark, and Swed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Some think the practice originated as a simple gift of food for poorly paid teach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Others think the good health associated with apples made the present particularly meaningful.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52480" y="533520"/>
            <a:ext cx="556272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99cc00"/>
                </a:solidFill>
                <a:latin typeface="Brush Script MT"/>
              </a:rPr>
              <a:t>A symbol for school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99cc00"/>
              </a:solidFill>
              <a:latin typeface="Brush Script MT"/>
              <a:ea typeface="Brush Script MT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228600" y="1905120"/>
            <a:ext cx="3583080" cy="3962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 rot="1239000">
            <a:off x="7543440" y="3049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 rot="20791800">
            <a:off x="304560" y="456840"/>
            <a:ext cx="1218960" cy="1076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5715000" y="5105520"/>
            <a:ext cx="1279440" cy="1600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86868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he name Apple is femin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he American meaning is- “sweet fruit, cherished on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riginated from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90920" y="304920"/>
            <a:ext cx="4343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6699"/>
                </a:solidFill>
                <a:latin typeface="Brush Script MT"/>
              </a:rPr>
              <a:t>The Name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6699"/>
              </a:solidFill>
              <a:latin typeface="Brush Script MT"/>
              <a:ea typeface="Brush Script MT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2333520" cy="3000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86" name=""/>
          <p:cNvSpPr/>
          <p:nvPr/>
        </p:nvSpPr>
        <p:spPr>
          <a:xfrm flipH="1" flipV="1">
            <a:off x="1447920" y="4114800"/>
            <a:ext cx="45720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5334120"/>
            <a:ext cx="40384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Gwyneth Paltrow's daughter -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Apple Blythe Alison Mart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144000" y="3962520"/>
            <a:ext cx="1716120" cy="289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0" t="31330" r="50013" b="0"/>
          <a:stretch/>
        </p:blipFill>
        <p:spPr>
          <a:xfrm rot="1788000">
            <a:off x="7315200" y="304560"/>
            <a:ext cx="1428840" cy="1962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rcRect l="0" t="31330" r="50013" b="0"/>
          <a:stretch/>
        </p:blipFill>
        <p:spPr>
          <a:xfrm rot="20078400">
            <a:off x="456840" y="228240"/>
            <a:ext cx="1428840" cy="1962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25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16341" r="3997" b="0"/>
          <a:stretch/>
        </p:blipFill>
        <p:spPr>
          <a:xfrm>
            <a:off x="0" y="533520"/>
            <a:ext cx="868680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rush Script MT"/>
                <a:hlinkClick r:id="rId1"/>
              </a:rPr>
              <a:t>http://www.whats-your-sign.com/celtic-meaning-apple-tre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rush Script MT"/>
                <a:hlinkClick r:id="rId2"/>
              </a:rPr>
              <a:t>http://everystockphoto.s3.amazonaws.com/apple_green_fruit_240421_l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rush Script MT"/>
                <a:hlinkClick r:id="rId3"/>
              </a:rPr>
              <a:t>http://upload.wikimedia.org/wikipedia/en/thumb/c/c4/Apple_Computer_Logo.svg/500px-Apple_Computer_Logo.svg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rush Script MT"/>
                <a:hlinkClick r:id="rId4"/>
              </a:rPr>
              <a:t>http://www.hort.purdue.edu/ext/senior/fruits/apple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rush Script MT"/>
                <a:hlinkClick r:id="rId5"/>
              </a:rPr>
              <a:t>http://en.wikipedia.org/wiki/Apple_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ush Script MT"/>
              </a:rPr>
              <a:t>http://www.barrypopik.com/images/FitzGerald1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ush Script MT"/>
              </a:rPr>
              <a:t>http://www.barrypopik.com/index.php/new_york_city/entry/summary_why_is_new_york_called_the_big_appl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ush Script MT"/>
              </a:rPr>
              <a:t>http://ask.yahoo.com/2006042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ush Script MT"/>
              </a:rPr>
              <a:t>http://www.all-babynames.com/meaning-of-name-App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76520" y="380880"/>
            <a:ext cx="556236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ffffff"/>
                  </a:solidFill>
                  <a:miter/>
                </a:ln>
                <a:solidFill>
                  <a:srgbClr val="33cccc"/>
                </a:solidFill>
                <a:latin typeface="Brush Script MT"/>
              </a:rPr>
              <a:t>References</a:t>
            </a:r>
            <a:endParaRPr b="0" lang="en-US" sz="1800" spc="1" strike="noStrike">
              <a:ln w="31680">
                <a:solidFill>
                  <a:srgbClr val="ffffff"/>
                </a:solidFill>
                <a:miter/>
              </a:ln>
              <a:solidFill>
                <a:srgbClr val="33cccc"/>
              </a:solidFill>
              <a:latin typeface="Brush Script MT"/>
              <a:ea typeface="Brush Script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4:42:43Z</dcterms:created>
  <dc:creator>lauren.hildebrand</dc:creator>
  <dc:description/>
  <dc:language>en-US</dc:language>
  <cp:lastModifiedBy>lauren.hildebrand</cp:lastModifiedBy>
  <dcterms:modified xsi:type="dcterms:W3CDTF">2009-03-26T15:43:02Z</dcterms:modified>
  <cp:revision>22</cp:revision>
  <dc:subject/>
  <dc:title>Slide 1</dc:title>
</cp:coreProperties>
</file>