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wmf" ContentType="image/x-wmf"/>
  <Override PartName="/ppt/media/image15.png" ContentType="image/png"/>
  <Override PartName="/ppt/media/image22.jpeg" ContentType="image/jpeg"/>
  <Override PartName="/ppt/media/image1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ED3-546C-4631-B585-E9FE5B51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9BD-3056-4D19-A68C-310AADC3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134-7CAD-42C3-B7CE-E3305DB9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76F-3BF4-4746-8381-DA2EF513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777-C27E-440C-8B36-C4E67F2A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60E-77AA-40C5-AB7D-D5A1ADA6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940-979C-4B82-AB6F-C91B4882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A7D-A499-4132-A301-E99F0183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E13-FCB5-437B-ADC9-353057FB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4BB-0751-44B5-8C0D-E8B1D65A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37F-5539-482F-ADF6-1F98F43C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F1E-4D37-4472-8151-44E52680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EDBF-FA94-4288-B136-BBB7E1F01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.about.com/d/chemistry/1/0/q/_/apple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a/ab/Apple-logo.png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hats-your-sign.com/celtic-meaning-apple-tree.html" TargetMode="External"/><Relationship Id="rId2" Type="http://schemas.openxmlformats.org/officeDocument/2006/relationships/hyperlink" Target="http://everystockphoto.s3.amazonaws.com/apple_green_fruit_240421_l.jpg" TargetMode="External"/><Relationship Id="rId3" Type="http://schemas.openxmlformats.org/officeDocument/2006/relationships/hyperlink" Target="http://upload.wikimedia.org/wikipedia/en/thumb/c/c4/Apple_Computer_Logo.svg/500px-Apple_Computer_Logo.svg.png" TargetMode="External"/><Relationship Id="rId4" Type="http://schemas.openxmlformats.org/officeDocument/2006/relationships/hyperlink" Target="http://www.hort.purdue.edu/ext/senior/fruits/apple1.htm" TargetMode="External"/><Relationship Id="rId5" Type="http://schemas.openxmlformats.org/officeDocument/2006/relationships/hyperlink" Target="http://en.wikipedia.org/wiki/Apple_Computer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6100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rush Script MT"/>
              </a:rPr>
              <a:t>By Lauren Hilde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66880" y="762120"/>
            <a:ext cx="388620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759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pples</a:t>
            </a:r>
            <a:endParaRPr b="0" lang="en-US" sz="1800" spc="1" strike="noStrike">
              <a:ln w="25560">
                <a:solidFill>
                  <a:srgbClr val="759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sp>
        <p:nvSpPr>
          <p:cNvPr id="44" name=""/>
          <p:cNvSpPr/>
          <p:nvPr/>
        </p:nvSpPr>
        <p:spPr>
          <a:xfrm>
            <a:off x="6561000" y="650556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z.about.com/d/chemistry/1/0/q/_/appl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5.0)">
                                      <p:cBhvr>
                                        <p:cTn id="10" dur="10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18960" y="60948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“apple”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could mean many different things in the world today. It could mea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2701800"/>
            <a:ext cx="487692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Computer Software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fa7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The Big Apple” (NY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Symbol fo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A Name of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281628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276228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6379" t="0" r="14740" b="0"/>
          <a:stretch/>
        </p:blipFill>
        <p:spPr>
          <a:xfrm>
            <a:off x="152280" y="2743200"/>
            <a:ext cx="2895840" cy="2371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838080" y="68580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57913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6699"/>
                </a:solidFill>
                <a:latin typeface="Arial"/>
              </a:rPr>
              <a:t>Chris Martin and Gwyneth Paltrow's daughter Apple Martin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have a rounded shape with a dent at the top where the stem is attac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s grow 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 skin of the apple can be red, green, yellow, or a combination of these col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Apple trees can range in size from 6 to 30 feet in h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d7e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7e00"/>
                </a:solidFill>
                <a:latin typeface="Bookman Old Style"/>
              </a:rPr>
              <a:t>There are also different types like- Cortland, Empire, Gala, Golden Delicious, Red Delicious etc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19520" y="304920"/>
            <a:ext cx="3886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5d7e00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The Fruit</a:t>
            </a:r>
            <a:endParaRPr b="0" lang="en-US" sz="1800" spc="1" strike="noStrike">
              <a:ln w="31680">
                <a:solidFill>
                  <a:srgbClr val="5d7e00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22109" b="6718"/>
          <a:stretch/>
        </p:blipFill>
        <p:spPr>
          <a:xfrm rot="1161000">
            <a:off x="6781320" y="1066320"/>
            <a:ext cx="1673280" cy="182736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20397000">
            <a:off x="6497640" y="2866680"/>
            <a:ext cx="1657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rcRect l="3790" t="0" r="20469" b="2568"/>
          <a:stretch/>
        </p:blipFill>
        <p:spPr>
          <a:xfrm rot="2184000">
            <a:off x="7010280" y="4647960"/>
            <a:ext cx="1603440" cy="1828800"/>
          </a:xfrm>
          <a:prstGeom prst="rect">
            <a:avLst/>
          </a:prstGeom>
          <a:ln w="25560">
            <a:solidFill>
              <a:srgbClr val="5d7e00"/>
            </a:solidFill>
            <a:miter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 Inc. is an American multinational corporation which designs and manufactures consumer electronics and software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The company's best-known hardware products includes  Macintosh computers, the iPod and the iPhone.</a:t>
            </a:r>
            <a:r>
              <a:rPr b="1" lang="en-US" sz="2000" spc="-1" strike="noStrike">
                <a:solidFill>
                  <a:srgbClr val="7fac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685800"/>
            <a:ext cx="685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Brush Script MT"/>
              </a:rPr>
              <a:t>The Computer Software</a:t>
            </a:r>
            <a:endParaRPr b="0" lang="en-US" sz="1800" spc="1" strike="noStrike">
              <a:ln w="2232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Brush Script MT"/>
              <a:ea typeface="Brush Script MT"/>
            </a:endParaRPr>
          </a:p>
        </p:txBody>
      </p:sp>
      <p:pic>
        <p:nvPicPr>
          <p:cNvPr id="65" name="" descr="File:Apple-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457200"/>
            <a:ext cx="94932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09680" y="3948120"/>
            <a:ext cx="4724640" cy="2909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562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95280" y="228600"/>
            <a:ext cx="70866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‘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ush Script MT"/>
              </a:rPr>
              <a:t>The Big Apple’ (New York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ush Script MT"/>
              <a:ea typeface="Brush Script MT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219320"/>
            <a:ext cx="6553080" cy="22096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62520" y="3429000"/>
            <a:ext cx="4343400" cy="318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3762360" cy="6553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5640" y="1447560"/>
            <a:ext cx="6629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"The Big Apple" was the catchphrase of New York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Morning Telegraph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track writer John J. Fitz Gerald in the 1920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He picked up the term from African-American stable hands at the Fair Grounds racetrack in New Orleans, probably on January 14, 19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86200" y="1752480"/>
            <a:ext cx="52578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pples are a traditional present for teachers in the United States, Denmark, and Swe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ome think the practice originated as a simple gift of food for poorly paid teach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Others think the good health associated with apples made the present particularly meaningful.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52480" y="533520"/>
            <a:ext cx="5562720" cy="89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Brush Script MT"/>
              </a:rPr>
              <a:t>A symbol for schoo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Brush Script MT"/>
              <a:ea typeface="Brush Script M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28600" y="1905120"/>
            <a:ext cx="3583080" cy="3962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 rot="1239000">
            <a:off x="7543440" y="304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 rot="20791800">
            <a:off x="304560" y="456840"/>
            <a:ext cx="121896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5715000" y="5105520"/>
            <a:ext cx="1279440" cy="16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8686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name Apple is femin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American meaning is- “sweet fruit, cherished 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riginated from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90920" y="304920"/>
            <a:ext cx="4343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99"/>
                </a:solidFill>
                <a:latin typeface="Brush Script MT"/>
              </a:rPr>
              <a:t>The Name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99"/>
              </a:solidFill>
              <a:latin typeface="Brush Script MT"/>
              <a:ea typeface="Brush Script M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2333520" cy="3000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6" name=""/>
          <p:cNvSpPr/>
          <p:nvPr/>
        </p:nvSpPr>
        <p:spPr>
          <a:xfrm flipH="1" flipV="1">
            <a:off x="1447920" y="4114800"/>
            <a:ext cx="4572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5334120"/>
            <a:ext cx="4038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Gwyneth Paltrow's daughter -</a:t>
            </a:r>
            <a:r>
              <a:rPr b="0" i="1" lang="en-US" sz="2000" spc="-1" strike="noStrike">
                <a:solidFill>
                  <a:srgbClr val="ffffff"/>
                </a:solidFill>
                <a:latin typeface="Bookman Old Style"/>
              </a:rPr>
              <a:t>Apple Blythe Alison Mart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0" y="3962520"/>
            <a:ext cx="171612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31330" r="50013" b="0"/>
          <a:stretch/>
        </p:blipFill>
        <p:spPr>
          <a:xfrm rot="1788000">
            <a:off x="7315200" y="30456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31330" r="50013" b="0"/>
          <a:stretch/>
        </p:blipFill>
        <p:spPr>
          <a:xfrm rot="20078400">
            <a:off x="456840" y="22824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16341" r="3997" b="0"/>
          <a:stretch/>
        </p:blipFill>
        <p:spPr>
          <a:xfrm>
            <a:off x="0" y="533520"/>
            <a:ext cx="868680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1"/>
              </a:rPr>
              <a:t>http://www.whats-your-sign.com/celtic-meaning-apple-tre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2"/>
              </a:rPr>
              <a:t>http://everystockphoto.s3.amazonaws.com/apple_green_fruit_240421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3"/>
              </a:rPr>
              <a:t>http://upload.wikimedia.org/wikipedia/en/thumb/c/c4/Apple_Computer_Logo.svg/500px-Apple_Computer_Logo.svg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4"/>
              </a:rPr>
              <a:t>http://www.hort.purdue.edu/ext/senior/fruits/apple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Brush Script MT"/>
                <a:hlinkClick r:id="rId5"/>
              </a:rPr>
              <a:t>http://en.wikipedia.org/wiki/Apple_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mages/FitzGerald1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barrypopik.com/index.php/new_york_city/entry/summary_why_is_new_york_called_the_big_appl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ask.yahoo.com/2006042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ush Script MT"/>
              </a:rPr>
              <a:t>http://www.all-babynames.com/meaning-of-name-App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76520" y="380880"/>
            <a:ext cx="556236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33cccc"/>
                </a:solidFill>
                <a:latin typeface="Brush Script MT"/>
              </a:rPr>
              <a:t>References</a:t>
            </a:r>
            <a:endParaRPr b="0" lang="en-US" sz="1800" spc="1" strike="noStrike">
              <a:ln w="31680">
                <a:solidFill>
                  <a:srgbClr val="ffffff"/>
                </a:solidFill>
                <a:miter/>
              </a:ln>
              <a:solidFill>
                <a:srgbClr val="33cccc"/>
              </a:solidFill>
              <a:latin typeface="Brush Script MT"/>
              <a:ea typeface="Brush Script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42:43Z</dcterms:created>
  <dc:creator>lauren.hildebrand</dc:creator>
  <dc:description/>
  <dc:language>en-US</dc:language>
  <cp:lastModifiedBy>lauren.hildebrand</cp:lastModifiedBy>
  <dcterms:modified xsi:type="dcterms:W3CDTF">2009-03-26T15:43:02Z</dcterms:modified>
  <cp:revision>22</cp:revision>
  <dc:subject/>
  <dc:title>Slide 1</dc:title>
</cp:coreProperties>
</file>